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124-2ADD-4924-8579-F5278277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2F8-D67C-4989-BF24-E7E3064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43E-4BF2-4200-AE5F-9C7B189C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D72-38A2-4E53-B4E3-0DC30BBB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804-2534-4C6F-9BF0-045F2DC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DA3-F208-4D09-B8E3-66B20FD4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FB9-EC64-49FD-A3F1-88225D43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5DA-77D8-4523-AEEF-22582E72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A08-D0B8-4C40-98A5-283BA48A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418-2089-4CBF-BE8D-B7F6E26E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04D-3B71-43DB-AD53-1024F8F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8B9-3640-484C-A8DF-4A78B01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246F-7E36-4D73-856E-10C092C100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2.jpe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animaux en d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237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d by H. Butter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5373720"/>
            <a:ext cx="784836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85080" cy="388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5516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rhinocé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2360" y="551664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tortue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277308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54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orang-out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ac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113440" cy="3344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5157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baleine bl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476600" cy="308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7640" y="515772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éléphant afri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08000" y="1197000"/>
          <a:ext cx="9001080" cy="4967280"/>
        </p:xfrm>
        <a:graphic>
          <a:graphicData uri="http://schemas.openxmlformats.org/drawingml/2006/table">
            <a:tbl>
              <a:tblPr/>
              <a:tblGrid>
                <a:gridCol w="1368360"/>
                <a:gridCol w="1871640"/>
                <a:gridCol w="1440000"/>
                <a:gridCol w="1944720"/>
                <a:gridCol w="23763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fr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mér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718920" cy="517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647640" cy="48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718920" cy="53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611280" y="4365720"/>
            <a:ext cx="718920" cy="53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26920" y="4941720"/>
            <a:ext cx="370080" cy="54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84360" y="5661000"/>
            <a:ext cx="653760" cy="450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coute: Où habitent ces animau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179280" y="19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179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>
            <a:off x="17928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1792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>
            <a:off x="179280" y="443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3"/>
          <a:stretch/>
        </p:blipFill>
        <p:spPr>
          <a:xfrm>
            <a:off x="17928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4"/>
          <a:stretch/>
        </p:blipFill>
        <p:spPr>
          <a:xfrm>
            <a:off x="1792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4633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4714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508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4145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4819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378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5237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’est-ce que c’est en angl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ours 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ours b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éléphant afri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éléphant asi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rhinocé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panda gé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léopard de ne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ti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gor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orang - out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tortue ma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baleine bl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ù est-ce qu’on trouv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672840" cy="936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19280" y="1484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le tigre en 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587160" cy="863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47640" y="2708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le gorille en……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792000" cy="595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19280" y="371628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…. en Arc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863640" cy="647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19280" y="4508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… 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39640" y="5445000"/>
            <a:ext cx="865440" cy="649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19280" y="5516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 … 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843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232000" cy="1538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443640" y="256536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564000" y="4797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780000" y="2421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780000" y="189000"/>
            <a:ext cx="1446120" cy="2016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6443640" y="333360"/>
            <a:ext cx="2087640" cy="1504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6516720" y="486900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324000" y="333360"/>
            <a:ext cx="1800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256360" cy="339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5300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éléphant asi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549360"/>
            <a:ext cx="336060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54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ti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259080" cy="479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92360" y="558972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gor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397840" cy="404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92360" y="5516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ours bla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400720" cy="389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53737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ours b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89600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5013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léopard de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5445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anda gé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8:41:31Z</dcterms:created>
  <dc:creator>Helena</dc:creator>
  <dc:description/>
  <dc:language>en-US</dc:language>
  <cp:lastModifiedBy>staff</cp:lastModifiedBy>
  <dcterms:modified xsi:type="dcterms:W3CDTF">2010-06-29T08:04:27Z</dcterms:modified>
  <cp:revision>11</cp:revision>
  <dc:subject/>
  <dc:title>Bedrohte Arten</dc:title>
</cp:coreProperties>
</file>